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866880" y="691920"/>
            <a:ext cx="51242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07/16/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#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C32F-E04E-4D75-A886-3EE6EF42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9890-34B7-4CC1-AA8D-9D35B660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982F-F598-4A55-BA0D-AEE05642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9D5-0DB6-4521-987A-50F01E89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42E-F32D-4ADF-BD4D-1F4CBA2F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578-BEED-4E13-B4AE-62DA08A4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43E-D983-45DC-AA7F-4318281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B13-A933-45BB-A73E-AA167202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A6B3-0C9C-4114-966C-4B0F0619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179-0D55-492C-9BF2-5C0E5CF6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13C-D08D-431D-A3D3-C90230EE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63592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7640" y="257472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420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63592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517640" y="4359240"/>
            <a:ext cx="179172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977-BC68-45E0-BF60-7B13F7B8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39560" y="1081080"/>
            <a:ext cx="9474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06120" y="435924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06120" y="2574720"/>
            <a:ext cx="271584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4200" y="4359240"/>
            <a:ext cx="5565600" cy="162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0" y="264960"/>
            <a:ext cx="10029960" cy="6589800"/>
          </a:xfrm>
          <a:prstGeom prst="rtTriangle">
            <a:avLst/>
          </a:prstGeom>
          <a:gradFill rotWithShape="0">
            <a:gsLst>
              <a:gs pos="0">
                <a:srgbClr val="4c3319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6343560" y="5275440"/>
            <a:ext cx="3813120" cy="6858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7640" y="1066680"/>
            <a:ext cx="10269360" cy="1320840"/>
          </a:xfrm>
          <a:prstGeom prst="rect">
            <a:avLst/>
          </a:prstGeom>
          <a:gradFill rotWithShape="0">
            <a:gsLst>
              <a:gs pos="0">
                <a:srgbClr val="4c3319"/>
              </a:gs>
              <a:gs pos="50000">
                <a:srgbClr val="996633"/>
              </a:gs>
              <a:gs pos="100000">
                <a:srgbClr val="4c331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69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9933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SzPct val="69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Arc 7"/>
          <p:cNvSpPr/>
          <p:nvPr/>
        </p:nvSpPr>
        <p:spPr>
          <a:xfrm>
            <a:off x="6437160" y="4680"/>
            <a:ext cx="3857760" cy="6851880"/>
          </a:xfrm>
          <a:custGeom>
            <a:avLst/>
            <a:gdLst/>
            <a:ahLst/>
            <a:rect l="l" t="t" r="r" b="b"/>
            <a:pathLst>
              <a:path fill="none" w="21600" h="43160">
                <a:moveTo>
                  <a:pt x="20791" y="43159"/>
                </a:moveTo>
                <a:cubicBezTo>
                  <a:pt x="9184" y="42724"/>
                  <a:pt x="0" y="33189"/>
                  <a:pt x="0" y="21575"/>
                </a:cubicBezTo>
                <a:cubicBezTo>
                  <a:pt x="-1" y="10049"/>
                  <a:pt x="9048" y="554"/>
                  <a:pt x="20560" y="0"/>
                </a:cubicBezTo>
              </a:path>
              <a:path stroke="0" w="21600" h="43160">
                <a:moveTo>
                  <a:pt x="20791" y="43159"/>
                </a:moveTo>
                <a:cubicBezTo>
                  <a:pt x="9184" y="42724"/>
                  <a:pt x="0" y="33189"/>
                  <a:pt x="0" y="21575"/>
                </a:cubicBezTo>
                <a:cubicBezTo>
                  <a:pt x="-1" y="10049"/>
                  <a:pt x="9048" y="554"/>
                  <a:pt x="20560" y="0"/>
                </a:cubicBezTo>
                <a:lnTo>
                  <a:pt x="21600" y="21575"/>
                </a:lnTo>
                <a:lnTo>
                  <a:pt x="20791" y="43159"/>
                </a:lnTo>
                <a:close/>
              </a:path>
            </a:pathLst>
          </a:custGeom>
          <a:noFill/>
          <a:ln cap="rnd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Arc 8"/>
          <p:cNvSpPr/>
          <p:nvPr/>
        </p:nvSpPr>
        <p:spPr>
          <a:xfrm>
            <a:off x="7802640" y="-836640"/>
            <a:ext cx="2485800" cy="2362320"/>
          </a:xfrm>
          <a:custGeom>
            <a:avLst/>
            <a:gdLst/>
            <a:ahLst/>
            <a:rect l="l" t="t" r="r" b="b"/>
            <a:pathLst>
              <a:path fill="none" w="20212" h="21599">
                <a:moveTo>
                  <a:pt x="19992" y="21598"/>
                </a:moveTo>
                <a:cubicBezTo>
                  <a:pt x="11082" y="21508"/>
                  <a:pt x="3142" y="15955"/>
                  <a:pt x="-1" y="7618"/>
                </a:cubicBezTo>
              </a:path>
              <a:path stroke="0" w="20212" h="21599">
                <a:moveTo>
                  <a:pt x="19992" y="21598"/>
                </a:moveTo>
                <a:cubicBezTo>
                  <a:pt x="11082" y="21508"/>
                  <a:pt x="3142" y="15955"/>
                  <a:pt x="-1" y="7618"/>
                </a:cubicBezTo>
                <a:lnTo>
                  <a:pt x="20212" y="0"/>
                </a:lnTo>
                <a:lnTo>
                  <a:pt x="19992" y="21598"/>
                </a:lnTo>
                <a:close/>
              </a:path>
            </a:pathLst>
          </a:custGeom>
          <a:noFill/>
          <a:ln cap="rnd" w="1260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 flipH="1" flipV="1">
            <a:off x="7691040" y="-3600"/>
            <a:ext cx="2389320" cy="270036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8151840" y="-11160"/>
            <a:ext cx="0" cy="681048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Line 11"/>
          <p:cNvSpPr/>
          <p:nvPr/>
        </p:nvSpPr>
        <p:spPr>
          <a:xfrm>
            <a:off x="1440" y="596880"/>
            <a:ext cx="10285560" cy="0"/>
          </a:xfrm>
          <a:prstGeom prst="line">
            <a:avLst/>
          </a:prstGeom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7372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14320" y="6244920"/>
            <a:ext cx="3257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514080" y="6244920"/>
            <a:ext cx="2400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B296-BEE3-4ACB-9D20-F40828976C24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771480" y="5638680"/>
            <a:ext cx="439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WordArt 27"/>
          <p:cNvSpPr txBox="1"/>
          <p:nvPr/>
        </p:nvSpPr>
        <p:spPr>
          <a:xfrm>
            <a:off x="1542960" y="1700280"/>
            <a:ext cx="7848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YANOTIC   CONGENITAL     HEART   DIS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WordArt 29"/>
          <p:cNvSpPr txBox="1"/>
          <p:nvPr/>
        </p:nvSpPr>
        <p:spPr>
          <a:xfrm>
            <a:off x="1542960" y="4508640"/>
            <a:ext cx="75056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R M. ALQURASH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bstein's Anomal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eb"/>
          <p:cNvPicPr/>
          <p:nvPr/>
        </p:nvPicPr>
        <p:blipFill>
          <a:blip r:embed="rId1"/>
          <a:stretch/>
        </p:blipFill>
        <p:spPr>
          <a:xfrm>
            <a:off x="2622600" y="1484280"/>
            <a:ext cx="4897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9043920" cy="23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bstein's Anomal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ebstine"/>
          <p:cNvPicPr/>
          <p:nvPr/>
        </p:nvPicPr>
        <p:blipFill>
          <a:blip r:embed="rId1"/>
          <a:stretch/>
        </p:blipFill>
        <p:spPr>
          <a:xfrm>
            <a:off x="2911320" y="1989000"/>
            <a:ext cx="444528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b22_contetralogy"/>
          <p:cNvPicPr/>
          <p:nvPr/>
        </p:nvPicPr>
        <p:blipFill>
          <a:blip r:embed="rId1"/>
          <a:stretch/>
        </p:blipFill>
        <p:spPr>
          <a:xfrm>
            <a:off x="1687680" y="1324080"/>
            <a:ext cx="5999040" cy="55339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327320" y="333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tralogy of Fal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822240" y="2637000"/>
          <a:ext cx="8796600" cy="3816360"/>
        </p:xfrm>
        <a:graphic>
          <a:graphicData uri="http://schemas.openxmlformats.org/drawingml/2006/table">
            <a:tbl>
              <a:tblPr/>
              <a:tblGrid>
                <a:gridCol w="4357800"/>
                <a:gridCol w="1433520"/>
                <a:gridCol w="3005280"/>
              </a:tblGrid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n Clinical Exam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CG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-ray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EM at 2</a:t>
                      </a:r>
                      <a:r>
                        <a:rPr b="0" lang="en-US" sz="2000" spc="-1" strike="noStrike" baseline="30000">
                          <a:solidFill>
                            <a:srgbClr val="ff99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ICS transmitted to 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ngle 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ild Cyanosis OR no  cyan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ot in di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VH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AD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oot shaped hea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c PV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ight arc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17"/>
          <p:cNvSpPr/>
          <p:nvPr/>
        </p:nvSpPr>
        <p:spPr>
          <a:xfrm>
            <a:off x="534960" y="1268280"/>
            <a:ext cx="885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tralogy of Fall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4495680" y="1371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tralogy of F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fallots"/>
          <p:cNvPicPr/>
          <p:nvPr/>
        </p:nvPicPr>
        <p:blipFill>
          <a:blip r:embed="rId1"/>
          <a:stretch/>
        </p:blipFill>
        <p:spPr>
          <a:xfrm>
            <a:off x="3127320" y="1700280"/>
            <a:ext cx="3816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pulmatresiavsd"/>
          <p:cNvPicPr/>
          <p:nvPr/>
        </p:nvPicPr>
        <p:blipFill>
          <a:blip r:embed="rId1"/>
          <a:stretch/>
        </p:blipFill>
        <p:spPr>
          <a:xfrm>
            <a:off x="2048040" y="1628640"/>
            <a:ext cx="64767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LMONARY ATR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tetpulmatresia"/>
          <p:cNvPicPr/>
          <p:nvPr/>
        </p:nvPicPr>
        <p:blipFill>
          <a:blip r:embed="rId1"/>
          <a:stretch/>
        </p:blipFill>
        <p:spPr>
          <a:xfrm>
            <a:off x="2982960" y="1700280"/>
            <a:ext cx="4103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947556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ESENTATIO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ANOSIS  with increase pulmonary flow (CYANOSIS WITH HEART FAILURE )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SITION OF THE GREAT ART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ANOMALOUS PULMONARY VENOUS DRAIN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sition of great art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transposition"/>
          <p:cNvPicPr/>
          <p:nvPr/>
        </p:nvPicPr>
        <p:blipFill>
          <a:blip r:embed="rId1"/>
          <a:stretch/>
        </p:blipFill>
        <p:spPr>
          <a:xfrm>
            <a:off x="1471680" y="1312920"/>
            <a:ext cx="691200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465120" y="2492280"/>
          <a:ext cx="9564840" cy="3816360"/>
        </p:xfrm>
        <a:graphic>
          <a:graphicData uri="http://schemas.openxmlformats.org/drawingml/2006/table">
            <a:tbl>
              <a:tblPr/>
              <a:tblGrid>
                <a:gridCol w="4822920"/>
                <a:gridCol w="1744560"/>
                <a:gridCol w="299736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n Clinical Exam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CG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-ray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Usually no murmu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ngle 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yanosis visibly mild may be mis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omfortable until PDA clo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RVH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ay be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neralized   cardiomega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Narrow mediastinu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ncreased PV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ay be 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18"/>
          <p:cNvSpPr/>
          <p:nvPr/>
        </p:nvSpPr>
        <p:spPr>
          <a:xfrm>
            <a:off x="1614600" y="134136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nsposition of great arter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TIC CH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b_cyanosis1"/>
          <p:cNvPicPr/>
          <p:nvPr/>
        </p:nvPicPr>
        <p:blipFill>
          <a:blip r:embed="rId1"/>
          <a:stretch/>
        </p:blipFill>
        <p:spPr>
          <a:xfrm>
            <a:off x="2048040" y="1916280"/>
            <a:ext cx="6408720" cy="39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sition of great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tgv"/>
          <p:cNvPicPr/>
          <p:nvPr/>
        </p:nvPicPr>
        <p:blipFill>
          <a:blip r:embed="rId1"/>
          <a:stretch/>
        </p:blipFill>
        <p:spPr>
          <a:xfrm>
            <a:off x="2695680" y="1916280"/>
            <a:ext cx="497052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sition of great ar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TGA2"/>
          <p:cNvPicPr/>
          <p:nvPr/>
        </p:nvPicPr>
        <p:blipFill>
          <a:blip r:embed="rId1"/>
          <a:stretch/>
        </p:blipFill>
        <p:spPr>
          <a:xfrm>
            <a:off x="0" y="1084320"/>
            <a:ext cx="1028700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9200" y="259920"/>
            <a:ext cx="9098280" cy="15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ESENTATION (CONT..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RT FAILU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TACHYPNEA, TACHYCARDIA,SWEATING, PALLOR, POOR FEEDING AND MILD CYANOS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RGE V.S.D., P.D.A., A.V.S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MALOUS  L.C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rioventricular Septal Defe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av canal2"/>
          <p:cNvPicPr/>
          <p:nvPr/>
        </p:nvPicPr>
        <p:blipFill>
          <a:blip r:embed="rId1"/>
          <a:stretch/>
        </p:blipFill>
        <p:spPr>
          <a:xfrm>
            <a:off x="2190600" y="1844640"/>
            <a:ext cx="540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9560" y="549000"/>
            <a:ext cx="9474480" cy="143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ESENTATIO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RCTATION OF THE A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AORTIC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LASTIC LEFT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7680" y="765000"/>
            <a:ext cx="94726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YPOPLASTIC LEFT HEART SYNDROM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hypoplacticLeftHeart"/>
          <p:cNvPicPr/>
          <p:nvPr/>
        </p:nvPicPr>
        <p:blipFill>
          <a:blip r:embed="rId1"/>
          <a:stretch/>
        </p:blipFill>
        <p:spPr>
          <a:xfrm>
            <a:off x="750960" y="1268280"/>
            <a:ext cx="6840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9560" y="404280"/>
            <a:ext cx="9474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PLASTIC LEFT HEART SYNDR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XR-HLHS-congested"/>
          <p:cNvPicPr/>
          <p:nvPr/>
        </p:nvPicPr>
        <p:blipFill>
          <a:blip r:embed="rId1"/>
          <a:stretch/>
        </p:blipFill>
        <p:spPr>
          <a:xfrm>
            <a:off x="2119320" y="1193760"/>
            <a:ext cx="5472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9200" y="0"/>
            <a:ext cx="916956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PLASTIC LEFT HEART SYNDRO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14080" y="1197000"/>
            <a:ext cx="92581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hlhsm"/>
          <p:cNvPicPr/>
          <p:nvPr/>
        </p:nvPicPr>
        <p:blipFill>
          <a:blip r:embed="rId1"/>
          <a:stretch/>
        </p:blipFill>
        <p:spPr>
          <a:xfrm>
            <a:off x="2408400" y="1341360"/>
            <a:ext cx="5040000" cy="46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39200" y="620640"/>
            <a:ext cx="945684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DIAGNOSTIC APPROACH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STO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STIGATION (CHEST X-RAY, EC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OXIC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9474120" cy="115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                                                                                           CHEST X-RAY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HEART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HEART 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LMONARY VASCULAR MARK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NORMAL HEART 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AT-SHAPED HEART: T.O.F.,TRICUSPID ATRE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G ON SIDE: T.G.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NOWMAN: T.A.P.V.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771480" y="5638680"/>
            <a:ext cx="439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60" y="1197000"/>
            <a:ext cx="953604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YANOSIS</a:t>
            </a:r>
            <a:br>
              <a:rPr sz="28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DEFINITION OF CENTRAL CYANOSIS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42960" y="3141360"/>
            <a:ext cx="7315200" cy="307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just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LUE DISCOLOURATION OF THE SKIN &amp; MUCOUS MEMBRA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DETECTABLE, WHEN THE DEOXYGENATED HEAMOGLOBIN IS MORE THAN 5 G/100 ML.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SimSun"/>
              </a:rPr>
              <a:t>(capill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[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SATURATION OF ARTERIAL BLOOD  &lt;85% 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9345240" y="5183280"/>
            <a:ext cx="4863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OSTAGLANDIN INDICATIO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TIC CARDIAC LESION WITH OBSTRUCTION TO PULMONARY BLOOD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LMONARY ATRES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CUSPID ATRESIA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PULMONARY VALVE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EX CYANOTIC C.H.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DICATION OF PROSTAGLANDI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TIC LESIONS WITH CLOSED PULMONARY RECIRC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SITION OF GREAT ART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ANOMALOUS PULMONARY VENOUS DRAINAGE (OBSTRU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9474480" cy="124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INDICATION OF PROSTAGLANDIN (CONT..)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YANOTIC LESIONS WITH OBSTRUCTION OF SYSTEMIC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ARCTATION OF AO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ION OF AORTIC 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AL AORTIC  STE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PLASTIC LEFT HEART SYNDR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8600" y="620640"/>
            <a:ext cx="996804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CYANOSIS    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     </a:t>
            </a:r>
            <a:br>
              <a:rPr sz="28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ASSIFICATION OF CYANOSIS IN NEWBOR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AL   ( BEST  AT TONGUE)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CARDIA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PULMONAR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NEUROMUSCULAR &amp; C.N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PERSISTENT PULMONARY HYPERTENS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METHAEMOGLOBINAEMIA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 (Arabic)"/>
              </a:rPr>
              <a:t>PULMONARY ARTERIOVENOUS FISTULA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PHERAL ( FINGERS &amp; TOES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OLOGICAL ( COL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CARDIAC OUTP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14080" y="274320"/>
            <a:ext cx="92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080" y="16002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aynesed baby"/>
          <p:cNvPicPr/>
          <p:nvPr/>
        </p:nvPicPr>
        <p:blipFill>
          <a:blip r:embed="rId1"/>
          <a:stretch/>
        </p:blipFill>
        <p:spPr>
          <a:xfrm>
            <a:off x="2408400" y="333360"/>
            <a:ext cx="62625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PRESENTATION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OSIS WITH DISTRESS  (CYANOSIS WITH HEART FAIL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GESTIVE HEART FAIL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889360" y="6119640"/>
            <a:ext cx="4397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GENITAL HEART DISEASE</a:t>
            </a:r>
            <a:br>
              <a:rPr sz="3200"/>
            </a:b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PRESENTATION  (CONT..)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4200" y="2574720"/>
            <a:ext cx="5565600" cy="34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A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ANOSIS WITH OBSTRUCTIVE PULMONARY FLOW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CUSPID ATRESI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LMONARY ATRESIA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 PULMONARY STENO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BSTEI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ANOM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.O. 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9560" y="1081080"/>
            <a:ext cx="9474480" cy="124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13" name="Picture 4" descr="ta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327320" y="2637000"/>
          <a:ext cx="7992720" cy="3279600"/>
        </p:xfrm>
        <a:graphic>
          <a:graphicData uri="http://schemas.openxmlformats.org/drawingml/2006/table">
            <a:tbl>
              <a:tblPr/>
              <a:tblGrid>
                <a:gridCol w="2997000"/>
                <a:gridCol w="2332080"/>
                <a:gridCol w="266364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On Clinical Ex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ECG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X-ray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ariable murmur or   none at 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Single S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Cyanosis tend to be   seve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VH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LAD (0-9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Generally normal size with elevated ape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ec PV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9560" y="1080720"/>
            <a:ext cx="9474480" cy="76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                          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Tricuspid Atresi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4-09-08T20:39:46Z</dcterms:modified>
  <cp:revision>201</cp:revision>
  <dc:subject/>
  <dc:title>CONGENTAL CYANOTIC HEART DISEASE</dc:title>
</cp:coreProperties>
</file>